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9E786-83DC-4864-8008-B5057A733C21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928CD-697C-4945-9612-10B66266A0D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4423D6-4E56-4FBD-BE7F-9164A304BAC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5500B-B722-4850-8EB6-FCA5ACCC291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DF333-8666-4132-9963-2C94B2514BB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920A0-1F3A-413B-999B-1BA14F9719E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2AF9DB-299A-4194-A31B-34AAFCF657B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4193D-D989-495D-B4DA-750ABF929B3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BD9B5-FB35-45D4-96D0-E8AD2907E32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A0162-1F15-4BAC-AB2B-1BE754BB0A3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4FFA9C-D6A1-47E2-BC11-B2031FEE099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BF820-9425-4115-BE25-FED7F22B1B2F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839D8-728C-4CE1-B1B8-13A159949EA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E84E5D-B063-46AF-82D6-BC0FC321AB5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7CF8E-B853-4C37-957B-1B66B6B292E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8D4DED-85D9-4C7A-B912-E553DB070E1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528A3-D400-4980-947C-61944342FB7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119BD-1A04-45EA-AEF8-DC90D22DC2B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AAF0E-9403-4CE1-9725-65604453A2A2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A0F09-5452-4E53-BA74-E5ECE2C1048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E2A17-5F46-4A3A-A2B0-2EC34FCB6917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A9B544-2AA3-464B-849B-F7C96E7210D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6B90E-B6AF-47E8-B337-0A1BF5EDC92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5E0AB-DDBE-409C-8A6C-82A316A8E648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56AE8-1ED1-439A-986C-77B3E1E4AB15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8C111-3161-4D21-99FC-99460633EC4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50B430-AFB2-44A4-95AA-D5F7C8E0E8DE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8EB0C6-5D4A-4DC4-BBB9-11FBE38081C2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775BEB-3EE4-42C7-9EED-ED628D1A7F3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244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  <a:ea typeface="Droid Sans Fallb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A6EC6-125F-4F87-80FC-08EE818DEF2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DF449-1266-4750-B691-AC320B22693F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F2E08-52E8-4667-946E-21C5F89B609C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0798A-A011-4B66-9B84-6FDCE3504B1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EE5215-DFC4-4BD7-B861-314BC491C6C2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68CA70-33B8-4236-AC57-204CA4A47BB4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DC29-EA48-4114-B568-17D360E10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8AC6-3688-492B-AABC-ADE297F7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76B3-4D23-4C89-ADEF-6E7A9AE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6A5F-981E-4F15-B6C8-B43EADF68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71DD-8E3E-46E0-8B65-B8F41371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DD90-224D-4311-8882-BE2ABF96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8D9A-46EC-4DF7-88CF-CA71091B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F772-78FE-4A6C-9FF5-0C457FF2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E74F-1EC8-4C16-AAE9-612ED1FA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3C19-818D-42C9-BFD5-3A5F4F56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A224-76C1-4BB0-A09F-C9F860A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0E5B-7E7E-4910-84F9-D8AD2BA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t-E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11CD0-6254-4BDB-80CA-18B305B0FB04}" type="slidenum">
              <a:rPr b="0" lang="et-E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and schemaless databases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ome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some 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Value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, Property, Valuetype: URI-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Value: URI or literal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Many representation synta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/X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-trip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urt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xample in Turtle synt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rdf: &lt;http://www.w3.org/1999/02/22-rdf-syntax-ns#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dc: &lt;http://purl.org/dc/elements/1.1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@prefix ex: &lt;http://example.org/stuff/1.0/&gt;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&lt;http://www.w3.org/TR/rdf-syntax-grammar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c:title "RDF/XML Syntax Specification (Revised)" 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editor [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fullname "Dave Beckett"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x:homePage &lt;http://purl.org/net/dajobe/&gt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] 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How to add metadata to a r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 timestamp, changer, row id, status etc etc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orrible answer: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ugly head of re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salary      20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ant to add timestamp and entering person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he reification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57200" y="160020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r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rsonid:12            salary               2000     +   timestamp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subject            personid: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predicate        sal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object             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timestamp      2009-10-20 13:4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row:10001       modifier          personid:345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rom the relational db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row, N cols in the relational d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rst, get N rows of four cols in R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cond, get (N*3)+X rows of four cols after re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12*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container blu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 vocabul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ing of three predefined types (together with some associated predefined propertie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resource that contains things. The contained thing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members of a container may be resources (including blank nodes) or literals. RDF defines three types of contain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B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S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f: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have no real semantics in RD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 semantics would make calc ha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tainers are fake, pointless tempt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3459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ocal id-s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ifferent object id-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URI-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se are f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“blank nodes”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Their semantics/use in the RDF spec is broken: creates unnecessary probl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The relational databases have been a standard way to store and query data for deca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lementations are complex and polish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QL is everyw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786200" y="3857760"/>
            <a:ext cx="344808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dicate, subject, valuetype URI-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keep a separate table for unique str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numeric string id-s in pred,subject,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orage in “common” d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oring value? Can be int, float, string, URI,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veral ways, all b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st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ncode everything as a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e several columns for different (main) 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parql query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type: &lt;http://dbpedia.org/class/yago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EFIX prop: &lt;http://dbpedia.org/property/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LECT ?country_name ?popul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HERE {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?country   a   type:LandlockedCountries 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s:label   ?country_name ;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rop:populationEstimate  ?population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IL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(?population &gt; 15000000 &amp;&amp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ngMatches(lang(?country_name), "EN"))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8040" indent="-318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} ORDER BY DESC(?population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Rule languages for class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e language:  RDFa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ex:Van    rdfs:subClassOf    ex:MotorVehicl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omplex language: 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ameIndividual:   f:male   g:mascu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unctionalDataProperty:    f:hasW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nverseFunctionalDataProperty:    f:hasW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ReligiousMarriage DisjointWith: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Civil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Class: f:Marriage Equivalent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f:ReligiousMarriage OR f:CivilMarri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Universal rule langu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1600200"/>
            <a:ext cx="82296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ased on first order logic: sugar and extensions add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ule engine has own language/featu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ttempts to create standard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K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ISO Common lo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SWR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ule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R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SO Common Log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457200" y="1600200"/>
            <a:ext cx="8228160" cy="4524480"/>
            <a:chOff x="457200" y="1600200"/>
            <a:chExt cx="8228160" cy="4524480"/>
          </a:xfrm>
        </p:grpSpPr>
        <p:sp>
          <p:nvSpPr>
            <p:cNvPr id="103" name="Freeform 3"/>
            <p:cNvSpPr/>
            <p:nvPr/>
          </p:nvSpPr>
          <p:spPr>
            <a:xfrm>
              <a:off x="457200" y="1600200"/>
              <a:ext cx="8228160" cy="4524480"/>
            </a:xfrm>
            <a:custGeom>
              <a:avLst/>
              <a:gdLst>
                <a:gd name="textAreaLeft" fmla="*/ 0 w 8228160"/>
                <a:gd name="textAreaRight" fmla="*/ 8228520 w 8228160"/>
                <a:gd name="textAreaTop" fmla="*/ 0 h 4524480"/>
                <a:gd name="textAreaBottom" fmla="*/ 4524840 h 4524480"/>
              </a:gdLst>
              <a:ahLst/>
              <a:rect l="textAreaLeft" t="textAreaTop" r="textAreaRight" b="textAreaBottom"/>
              <a:pathLst>
                <a:path w="5441" h="2550">
                  <a:moveTo>
                    <a:pt x="252" y="273"/>
                  </a:moveTo>
                  <a:cubicBezTo>
                    <a:pt x="53" y="395"/>
                    <a:pt x="56" y="616"/>
                    <a:pt x="28" y="834"/>
                  </a:cubicBezTo>
                  <a:cubicBezTo>
                    <a:pt x="0" y="1052"/>
                    <a:pt x="13" y="1347"/>
                    <a:pt x="81" y="1581"/>
                  </a:cubicBezTo>
                  <a:cubicBezTo>
                    <a:pt x="149" y="1815"/>
                    <a:pt x="95" y="2089"/>
                    <a:pt x="433" y="2236"/>
                  </a:cubicBezTo>
                  <a:cubicBezTo>
                    <a:pt x="771" y="2383"/>
                    <a:pt x="1564" y="2433"/>
                    <a:pt x="2108" y="2466"/>
                  </a:cubicBezTo>
                  <a:cubicBezTo>
                    <a:pt x="2652" y="2499"/>
                    <a:pt x="3189" y="2448"/>
                    <a:pt x="3697" y="2434"/>
                  </a:cubicBezTo>
                  <a:cubicBezTo>
                    <a:pt x="4205" y="2420"/>
                    <a:pt x="4875" y="2550"/>
                    <a:pt x="5158" y="2381"/>
                  </a:cubicBezTo>
                  <a:cubicBezTo>
                    <a:pt x="5441" y="2212"/>
                    <a:pt x="5398" y="1755"/>
                    <a:pt x="5393" y="1421"/>
                  </a:cubicBezTo>
                  <a:cubicBezTo>
                    <a:pt x="5388" y="1087"/>
                    <a:pt x="5261" y="588"/>
                    <a:pt x="5126" y="375"/>
                  </a:cubicBezTo>
                  <a:cubicBezTo>
                    <a:pt x="4991" y="162"/>
                    <a:pt x="4934" y="206"/>
                    <a:pt x="4582" y="145"/>
                  </a:cubicBezTo>
                  <a:cubicBezTo>
                    <a:pt x="4230" y="84"/>
                    <a:pt x="3574" y="14"/>
                    <a:pt x="3014" y="7"/>
                  </a:cubicBezTo>
                  <a:cubicBezTo>
                    <a:pt x="2454" y="0"/>
                    <a:pt x="1682" y="59"/>
                    <a:pt x="1222" y="103"/>
                  </a:cubicBezTo>
                  <a:cubicBezTo>
                    <a:pt x="762" y="147"/>
                    <a:pt x="451" y="151"/>
                    <a:pt x="252" y="273"/>
                  </a:cubicBezTo>
                  <a:close/>
                </a:path>
              </a:pathLst>
            </a:custGeom>
            <a:solidFill>
              <a:srgbClr val="bbc9dd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4"/>
            <p:cNvSpPr/>
            <p:nvPr/>
          </p:nvSpPr>
          <p:spPr>
            <a:xfrm>
              <a:off x="790560" y="1909800"/>
              <a:ext cx="6372360" cy="3801960"/>
            </a:xfrm>
            <a:prstGeom prst="ellipse">
              <a:avLst/>
            </a:prstGeom>
            <a:solidFill>
              <a:srgbClr val="7b74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6972480" y="2228760"/>
              <a:ext cx="14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ver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6"/>
            <p:cNvSpPr/>
            <p:nvPr/>
          </p:nvSpPr>
          <p:spPr>
            <a:xfrm>
              <a:off x="903240" y="2554200"/>
              <a:ext cx="6113520" cy="2987640"/>
            </a:xfrm>
            <a:prstGeom prst="ellipse">
              <a:avLst/>
            </a:prstGeom>
            <a:solidFill>
              <a:srgbClr val="7b74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1022400" y="3444840"/>
              <a:ext cx="14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Log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8"/>
            <p:cNvSpPr/>
            <p:nvPr/>
          </p:nvSpPr>
          <p:spPr>
            <a:xfrm>
              <a:off x="4176720" y="3757680"/>
              <a:ext cx="3954600" cy="1947960"/>
            </a:xfrm>
            <a:prstGeom prst="ellipse">
              <a:avLst/>
            </a:prstGeom>
            <a:solidFill>
              <a:srgbClr val="007e1d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6756480" y="4708440"/>
              <a:ext cx="119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 (zed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2300400" y="3186000"/>
              <a:ext cx="3889440" cy="224964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2455920" y="2935440"/>
              <a:ext cx="4160880" cy="171900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2730600" y="3463920"/>
              <a:ext cx="88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WL/RD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3664080" y="3197160"/>
              <a:ext cx="2678040" cy="1189080"/>
            </a:xfrm>
            <a:prstGeom prst="ellipse">
              <a:avLst/>
            </a:prstGeom>
            <a:solidFill>
              <a:srgbClr val="fb4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3990960" y="3444840"/>
              <a:ext cx="208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 Logic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3394080" y="4562640"/>
              <a:ext cx="109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lo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011400" y="2023920"/>
              <a:ext cx="25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ptual Graph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everal syntaxes, common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(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)(Boy(x) 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(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)(Girl(y) &amp; Kissed(x,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[@every *x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[If: (Boy ?x)</a:t>
            </a:r>
            <a:r>
              <a:rPr b="0" lang="et-EE" sz="24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Grande"/>
              </a:rPr>
              <a:t>[Then: [*y] (Girl ?y) (Kissed ?x ?y) ]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6524640" y="464328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chieving semantic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ystem A: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married Jack Ji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ystem B: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married (roleset:(husband Jack)(wife Jill))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understand”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vide equivalence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forall (x 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implies  (married x 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married (roleset:(husband x) (wife y))) ) 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4664160"/>
            <a:ext cx="2052720" cy="21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RIF: rule interchange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1600200"/>
            <a:ext cx="822960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gain, many syntaxes, common seman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ocumen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efix(cpt &lt;http://example.com/concepts#&gt;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efix(ppl &lt;http://example.com/people#&gt;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efix(bks &lt;http://example.com/books#&gt;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Group (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Forall ?Buyer ?Item ?Selle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pt:buy(?Buyer ?Item ?Seller) :-  cpt:sell(?Seller ?Item ?Buyer)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pt:sell(ppl:John bks:LeRif ppl:Mary)  ) ) 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429680" y="5452920"/>
            <a:ext cx="146808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Back to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Most people are not happy with current RDF,  OWL or rule langua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 databases are slow, when compared to relational bases as they are commonly u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ule systems are very sl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429160" y="2214720"/>
            <a:ext cx="285768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Alternatives: existing and s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etwork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bject-relational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ain memory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osql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ocument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XM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RDF, Sparql, semantic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Google Bigtable and MapRedu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11720" y="1736640"/>
            <a:ext cx="39052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peed ho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DF is probably better suited for memory db-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Locality is less critical in memory than dis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N cols in a row have better locality than N RDF rows of 4 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Bigger hit for disc based systems than memor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ule systems are too slow on a disc db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need pure, rule-optimised memory d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rop triples for N-tu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ification is b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ut metadata directly into the data r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xample ca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LIKO project: technology fo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xtual information and user profiles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ncrete subproject: intelligent tourist recommendations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+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roper RDF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 id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name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ncoded in a large numer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type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uri reference 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etadata on the same 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w id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start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ity end date/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 (uri reference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 (integ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stamp of last mod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 id (uri reference id  of a web page, database, 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loating suggestions for RDF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82296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ore “ordinary” logic/databas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N-tu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conta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restriction th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ubject and pred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ust be URI-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Drop “blank nod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implify valu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dd n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 http://www.slideshare.net/PatHayes/rdf-red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38080" y="990720"/>
            <a:ext cx="78487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544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96760"/>
                <a:tab algn="l" pos="1811160"/>
                <a:tab algn="l" pos="2725560"/>
                <a:tab algn="l" pos="3639960"/>
                <a:tab algn="l" pos="4554360"/>
                <a:tab algn="l" pos="5468760"/>
                <a:tab algn="l" pos="6383160"/>
                <a:tab algn="l" pos="7297560"/>
                <a:tab algn="l" pos="8211960"/>
                <a:tab algn="l" pos="9126360"/>
                <a:tab algn="l" pos="100407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544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96760"/>
                <a:tab algn="l" pos="1811160"/>
                <a:tab algn="l" pos="2725560"/>
                <a:tab algn="l" pos="3639960"/>
                <a:tab algn="l" pos="4554360"/>
                <a:tab algn="l" pos="5468760"/>
                <a:tab algn="l" pos="6383160"/>
                <a:tab algn="l" pos="7297560"/>
                <a:tab algn="l" pos="8211960"/>
                <a:tab algn="l" pos="9126360"/>
                <a:tab algn="l" pos="100407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-less: obvious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ach row with N cols is represented as N rows of three columns, called sometimes 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ow/Object id        Column name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ubject                     Predicate                 Ob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milar to key-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            Property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be combined 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:Property                              Val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Schema-less is often inevi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 data from numerous sources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ggregate in our own databa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e have no control over foreign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understanding of foreign data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ur data sources 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ife is h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People need schemaless databases. Ye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are s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chemaless databases need „schema“ or rules or something to add more „soft“ structure to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tandards/theory is evolving/changing f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Nobody is happy with what we currently ha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The only standard (which nobody lov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DF(S): resource description frame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veloped and pushed by W3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rnerstone of the semantic web proj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arge number of systems 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A lot of to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257960" y="5000760"/>
            <a:ext cx="150516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: triple not really a tri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bject          Property         Value       Valuety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ith valuetype normally being eith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ne of xml schema data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lobal id: U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ocal 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0:49:55Z</dcterms:created>
  <dc:creator>tanel</dc:creator>
  <dc:description/>
  <dc:language>en-US</dc:language>
  <cp:lastModifiedBy>Tanel</cp:lastModifiedBy>
  <dcterms:modified xsi:type="dcterms:W3CDTF">2014-02-19T13:30:35Z</dcterms:modified>
  <cp:revision>62</cp:revision>
  <dc:subject/>
  <dc:title>RDF and schemaless databases: some notes</dc:title>
</cp:coreProperties>
</file>